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BA42-5368-450D-AD1F-DC48B73D5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C25F-2E29-423D-9828-06C1488C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D6F3-211E-4445-A3D4-4E2E862FF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64F5-D4DC-4CFE-A9FF-2A5EE1467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4788-A9B2-43B5-9636-038D6312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D0CB-1EE7-4BA6-9470-B359B9BD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1298-7CEE-403B-A063-BABFF2C0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C7E8-E5CC-4F22-B32A-024D16A9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1806-5533-44DD-A0F4-DB0079C3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46D9-3005-4D8E-8835-87B8E55A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A8D7-6230-493F-8724-CC0F042F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70AA-BFD3-4DB9-9C7D-39ADF591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2D20-A505-409B-81E7-08B4AD0BE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oisestate.edu/socwork/392/CSB/The%20Triangle%20Shirtwaist%20Fire.ppt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Strike fight"/>
          <p:cNvPicPr/>
          <p:nvPr/>
        </p:nvPicPr>
        <p:blipFill>
          <a:blip r:embed="rId1"/>
          <a:stretch/>
        </p:blipFill>
        <p:spPr>
          <a:xfrm>
            <a:off x="2286000" y="1752480"/>
            <a:ext cx="6553080" cy="3687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ikers and Federal troo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90920" y="228600"/>
            <a:ext cx="5051160" cy="645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ve Barg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otiating between workers and employ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ngle Shirtwaist Factory F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0" y="177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Click this photo&#13;&#10;of the shop floor to view presenta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1905120"/>
            <a:ext cx="57150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6278400" cy="41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Triangle Shirtwaist Company"/>
          <p:cNvPicPr/>
          <p:nvPr/>
        </p:nvPicPr>
        <p:blipFill>
          <a:blip r:embed="rId1"/>
          <a:stretch/>
        </p:blipFill>
        <p:spPr>
          <a:xfrm>
            <a:off x="2590920" y="1447920"/>
            <a:ext cx="5783040" cy="380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Photograph:Next of kin attempt to identify victims of the Triangle Shirtwaist Company fire, New York City, 1911."/>
          <p:cNvPicPr/>
          <p:nvPr/>
        </p:nvPicPr>
        <p:blipFill>
          <a:blip r:embed="rId1"/>
          <a:stretch/>
        </p:blipFill>
        <p:spPr>
          <a:xfrm>
            <a:off x="2362320" y="1143000"/>
            <a:ext cx="6518160" cy="41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come of incid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45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wner acquit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or laws changed for women and child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ct fir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0"/>
            <a:ext cx="46242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07880"/>
            <a:ext cx="9144000" cy="6042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9-10-04T22:43:19Z</dcterms:modified>
  <cp:revision>1</cp:revision>
  <dc:subject/>
  <dc:title>PowerPoint Presentation</dc:title>
</cp:coreProperties>
</file>